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FA6C9-E60E-4005-97A2-EB5B11C17B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910BD-3E58-4D38-BAC7-2F972A65EC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341C3-A64D-478D-BF7B-616CFAFD2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28181-9BEA-445B-B9EC-DFDC9A20E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2877A-AB30-42CB-836A-F04A7493A8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754EF-6D0A-44E0-AC60-2FDB1F2802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96FF8-23F8-4173-9D03-E09B83C3C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AFDDD-ABA0-4422-B0D5-7ADEE45F78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011DE-B9C7-4B59-99E9-BFCBE1DD4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413C8-3311-47F7-89AD-4720DC7EF2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F5CEA-BB9D-4676-84ED-8C24F0E918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5A560-54B2-4802-96C6-E16CA6BAF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FFD56-C3D3-4317-B03D-879081A6EC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8D3A-2095-4B04-87EB-E87CB12E7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F99B-D3D5-4618-A60E-2DED5A489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6093-B086-4AC2-A567-2E3CB370B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FFC5-019A-460D-B5B2-60BE360CC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7417-269F-4BBF-81AB-4F96DB588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5350-7A4D-46EC-90BC-E9D308D29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83D1-B32E-4A63-B814-A21A65196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F02D-F80B-4314-8E2D-7AC3E86DD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1110-FBC7-4071-A4EC-1D5E2F6A3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CA50-9C39-44D1-9611-04E8C677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A3D6-05CE-4255-A81C-EAB1A3A5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D4D0-6415-4C87-AA5F-70C130E8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9665A-B107-4A10-B451-04CCF9AE5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33520" y="1295280"/>
            <a:ext cx="5767200" cy="746784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 fontScale="95000"/>
          </a:bodyPr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Relationship between power,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urrent, voltage and resistance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 = power (watt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 = current (ampere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V = voltage (volt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 = resistance (ohm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eating tape uses 5 amps at 120 volt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ower dissipated by this device is 600 watts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Object 6"/>
              <p:cNvSpPr txBox="1"/>
              <p:nvPr/>
            </p:nvSpPr>
            <p:spPr>
              <a:xfrm>
                <a:off x="2286000" y="3505320"/>
                <a:ext cx="220968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×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" name="Text Box 7"/>
          <p:cNvSpPr/>
          <p:nvPr/>
        </p:nvSpPr>
        <p:spPr>
          <a:xfrm>
            <a:off x="441360" y="1413000"/>
            <a:ext cx="588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10"/>
              <p:cNvSpPr txBox="1"/>
              <p:nvPr/>
            </p:nvSpPr>
            <p:spPr>
              <a:xfrm>
                <a:off x="2286000" y="2747880"/>
                <a:ext cx="217476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×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11"/>
              <p:cNvSpPr txBox="1"/>
              <p:nvPr/>
            </p:nvSpPr>
            <p:spPr>
              <a:xfrm>
                <a:off x="2286000" y="4272120"/>
                <a:ext cx="244008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×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77440" y="1523880"/>
            <a:ext cx="5770440" cy="653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Be careful with electricity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Ask someone for help if you are unsure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 rot="16200000">
            <a:off x="-322200" y="346860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5" descr="110-1018_IMG"/>
          <p:cNvPicPr/>
          <p:nvPr/>
        </p:nvPicPr>
        <p:blipFill>
          <a:blip r:embed="rId1"/>
          <a:stretch/>
        </p:blipFill>
        <p:spPr>
          <a:xfrm>
            <a:off x="1314360" y="2641680"/>
            <a:ext cx="47437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 rot="16200000">
            <a:off x="-322200" y="346860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6" descr="110-1023_IMG"/>
          <p:cNvPicPr/>
          <p:nvPr/>
        </p:nvPicPr>
        <p:blipFill>
          <a:blip r:embed="rId1"/>
          <a:stretch/>
        </p:blipFill>
        <p:spPr>
          <a:xfrm>
            <a:off x="1200240" y="2641680"/>
            <a:ext cx="48006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AC vs. DC Electricit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57704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Direct current (DC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C:\Documents and Settings\josh\Desktop\Graph1.EMF"/>
          <p:cNvPicPr/>
          <p:nvPr/>
        </p:nvPicPr>
        <p:blipFill>
          <a:blip r:embed="rId1"/>
          <a:stretch/>
        </p:blipFill>
        <p:spPr>
          <a:xfrm>
            <a:off x="914400" y="2209680"/>
            <a:ext cx="4610160" cy="56390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7"/>
          <p:cNvSpPr/>
          <p:nvPr/>
        </p:nvSpPr>
        <p:spPr>
          <a:xfrm>
            <a:off x="1518480" y="7848720"/>
            <a:ext cx="406080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3300"/>
                </a:solidFill>
                <a:latin typeface="Arial"/>
              </a:rPr>
              <a:t>Alternating current (AC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 Equi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577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ower requirements (input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533520" y="3048120"/>
          <a:ext cx="6019560" cy="3689280"/>
        </p:xfrm>
        <a:graphic>
          <a:graphicData uri="http://schemas.openxmlformats.org/drawingml/2006/table">
            <a:tbl>
              <a:tblPr/>
              <a:tblGrid>
                <a:gridCol w="2619360"/>
                <a:gridCol w="1008000"/>
                <a:gridCol w="1173240"/>
                <a:gridCol w="12189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Equip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ol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Am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Wat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rbopum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yopum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8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ting tape (big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t gu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Lethal Electricit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77440" y="1523880"/>
            <a:ext cx="5770440" cy="6531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marL="619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hart below assumes 1 second hand to foot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posure to 120 volt, 60 cycle AC power suppl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09480" y="2590920"/>
          <a:ext cx="5791320" cy="4917960"/>
        </p:xfrm>
        <a:graphic>
          <a:graphicData uri="http://schemas.openxmlformats.org/drawingml/2006/table">
            <a:tbl>
              <a:tblPr/>
              <a:tblGrid>
                <a:gridCol w="2210040"/>
                <a:gridCol w="3581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p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ight shock felt; not painful but disturb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30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inful shock; "let-go" ran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-150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reme pain, respiratory arrest, severe muscular contra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-4,300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tricular fibrill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00+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ac arrest, severe burns and probable deat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 Box 60"/>
          <p:cNvSpPr/>
          <p:nvPr/>
        </p:nvSpPr>
        <p:spPr>
          <a:xfrm>
            <a:off x="517680" y="7966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1"/>
          <p:cNvSpPr/>
          <p:nvPr/>
        </p:nvSpPr>
        <p:spPr>
          <a:xfrm>
            <a:off x="460440" y="7924680"/>
            <a:ext cx="61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Laboratory wall outlets provide 20,000 mA 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afety Devic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7440" y="1523520"/>
            <a:ext cx="577044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ff"/>
                </a:solidFill>
                <a:latin typeface="Arial"/>
              </a:rPr>
              <a:t>Fuses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tect electrical wiring from carrying too much curren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tect malfunctioning equipment from drawing too much curren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ductor melts if too much current flows through fus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an only be used onc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lways use the correct fus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15"/>
          <p:cNvGrpSpPr/>
          <p:nvPr/>
        </p:nvGrpSpPr>
        <p:grpSpPr>
          <a:xfrm>
            <a:off x="1371600" y="3809880"/>
            <a:ext cx="1563840" cy="1983600"/>
            <a:chOff x="1371600" y="3809880"/>
            <a:chExt cx="1563840" cy="1983600"/>
          </a:xfrm>
        </p:grpSpPr>
        <p:pic>
          <p:nvPicPr>
            <p:cNvPr id="69" name="Picture 11" descr="http://static.howstuffworks.com/gif/wfc-fuse-good.jpg"/>
            <p:cNvPicPr/>
            <p:nvPr/>
          </p:nvPicPr>
          <p:blipFill>
            <a:blip r:embed="rId1"/>
            <a:stretch/>
          </p:blipFill>
          <p:spPr>
            <a:xfrm>
              <a:off x="1371600" y="3809880"/>
              <a:ext cx="156384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13"/>
            <p:cNvSpPr/>
            <p:nvPr/>
          </p:nvSpPr>
          <p:spPr>
            <a:xfrm>
              <a:off x="1450440" y="5333760"/>
              <a:ext cx="145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ew fu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16"/>
          <p:cNvGrpSpPr/>
          <p:nvPr/>
        </p:nvGrpSpPr>
        <p:grpSpPr>
          <a:xfrm>
            <a:off x="3581280" y="3809880"/>
            <a:ext cx="1710000" cy="1983600"/>
            <a:chOff x="3581280" y="3809880"/>
            <a:chExt cx="1710000" cy="1983600"/>
          </a:xfrm>
        </p:grpSpPr>
        <p:pic>
          <p:nvPicPr>
            <p:cNvPr id="72" name="Picture 7" descr="http://static.howstuffworks.com/gif/wfc-fuse-blown.jpg"/>
            <p:cNvPicPr/>
            <p:nvPr/>
          </p:nvPicPr>
          <p:blipFill>
            <a:blip r:embed="rId2"/>
            <a:stretch/>
          </p:blipFill>
          <p:spPr>
            <a:xfrm>
              <a:off x="3581280" y="3809880"/>
              <a:ext cx="171000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14"/>
            <p:cNvSpPr/>
            <p:nvPr/>
          </p:nvSpPr>
          <p:spPr>
            <a:xfrm>
              <a:off x="3603600" y="5333760"/>
              <a:ext cx="166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lown fu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afety Devic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7440" y="1523520"/>
            <a:ext cx="577044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ff"/>
                </a:solidFill>
                <a:latin typeface="Arial"/>
              </a:rPr>
              <a:t>Circuit Breaker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tect electrical wiring from carrying too much curren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echanical switch is driven by an electromagne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an only be reset many tim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13"/>
          <p:cNvGrpSpPr/>
          <p:nvPr/>
        </p:nvGrpSpPr>
        <p:grpSpPr>
          <a:xfrm>
            <a:off x="1655640" y="3230640"/>
            <a:ext cx="2381400" cy="2682720"/>
            <a:chOff x="1655640" y="3230640"/>
            <a:chExt cx="2381400" cy="2682720"/>
          </a:xfrm>
        </p:grpSpPr>
        <p:sp>
          <p:nvSpPr>
            <p:cNvPr id="77" name="Rectangle 10"/>
            <p:cNvSpPr/>
            <p:nvPr/>
          </p:nvSpPr>
          <p:spPr>
            <a:xfrm>
              <a:off x="1655640" y="3230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11"/>
            <p:cNvSpPr/>
            <p:nvPr/>
          </p:nvSpPr>
          <p:spPr>
            <a:xfrm>
              <a:off x="1655640" y="3230640"/>
              <a:ext cx="2381400" cy="26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6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                                                                                                         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9" name="Picture 12" descr="http://static.howstuffworks.com/gif/circuit-breaker-diagram.gif"/>
          <p:cNvPicPr/>
          <p:nvPr/>
        </p:nvPicPr>
        <p:blipFill>
          <a:blip r:embed="rId1"/>
          <a:stretch/>
        </p:blipFill>
        <p:spPr>
          <a:xfrm>
            <a:off x="1143000" y="4800600"/>
            <a:ext cx="4724280" cy="354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afety Devic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77440" y="1523520"/>
            <a:ext cx="577044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ff"/>
                </a:solidFill>
                <a:latin typeface="Arial"/>
              </a:rPr>
              <a:t>Circuit Breaker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ne circuit breaker may cover many electrical receptacles in a lab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ceptacles in some labs are labeled with a number that corresponds to a circuit breake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Object 8"/>
          <p:cNvGraphicFramePr/>
          <p:nvPr/>
        </p:nvGraphicFramePr>
        <p:xfrm>
          <a:off x="1066680" y="4876920"/>
          <a:ext cx="507996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876920"/>
                    <a:ext cx="507996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reventing Accident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5823000" cy="723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void contact with energized circui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isconnect the power source before servicing or repairing electrical equipmen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Work with only one hand, keeping the other hand behind you or in a pock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f water or a chemical is spilled onto equipment, shut off power at the main switch or circuit breaker and unplug the equip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f an individual comes in contact with a live electrical conductor, do not touch the equipment, cord or pers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  <a:ea typeface="Times New Roman"/>
              </a:rPr>
              <a:t>Disconnect the power source from the circuit breaker or pull out the plug using a leather belt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reventing Accident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79096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ff"/>
                </a:solidFill>
                <a:latin typeface="Arial"/>
              </a:rPr>
              <a:t>Electrical Fir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Unplug equipment first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Use dry chemical fire extinguisher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If fire is large, unplug equipment and call fire dept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3300"/>
                </a:solidFill>
                <a:latin typeface="Arial"/>
              </a:rPr>
              <a:t>Never use water!!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C:\Documents and Settings\josh\Application Data\Microsoft\Media Catalog\Downloaded Clips\cl0\HH00861_.wmf"/>
          <p:cNvPicPr/>
          <p:nvPr/>
        </p:nvPicPr>
        <p:blipFill>
          <a:blip r:embed="rId1"/>
          <a:stretch/>
        </p:blipFill>
        <p:spPr>
          <a:xfrm>
            <a:off x="4114800" y="1447920"/>
            <a:ext cx="808200" cy="1644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C:\Program Files\Common Files\Microsoft Shared\Clipart\cagcat50\bd06711_.wmf"/>
          <p:cNvPicPr/>
          <p:nvPr/>
        </p:nvPicPr>
        <p:blipFill>
          <a:blip r:embed="rId2"/>
          <a:stretch/>
        </p:blipFill>
        <p:spPr>
          <a:xfrm>
            <a:off x="4724280" y="7086600"/>
            <a:ext cx="1757520" cy="1627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8T14:02:02Z</dcterms:created>
  <dc:creator>josh</dc:creator>
  <dc:description/>
  <dc:language>en-US</dc:language>
  <cp:lastModifiedBy>دشئث</cp:lastModifiedBy>
  <dcterms:modified xsi:type="dcterms:W3CDTF">2010-10-16T15:59:47Z</dcterms:modified>
  <cp:revision>26</cp:revision>
  <dc:subject/>
  <dc:title>Electrical Safety in the Laboratory</dc:title>
</cp:coreProperties>
</file>